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046-DDB1-4D2D-B5AF-C6D32026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2AD-C149-4E3F-8F65-D712BF0D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939-BEE1-48A1-94EF-A77BD85F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F78-2D02-4B0D-B950-8B447BBC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956-6D19-4FEC-8694-9312C62C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28B-5C78-4631-8598-0B411163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576-ACBC-43AD-9F53-CA2DBE38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6B4-1DD0-4569-9032-3DDF302E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80F-8BA2-4B97-B4E8-019F540C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6F8-9C65-473A-A2B7-58CBF054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B50-A859-4086-A102-2B5D8A61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465-7FC1-4F9D-96DD-9F700ECA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7A46-24ED-4D96-9695-E7F305829B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693800" y="224316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9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黄山奇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692360" y="4525920"/>
            <a:ext cx="63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张茂平工作室      刘彬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找出你觉得最有趣的地方，读出奇石之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桌合作，表演读，一人读，一人配合作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57200" y="476280"/>
            <a:ext cx="3529080" cy="1008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多种形式读出奇石之“奇趣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板块三   多种方式   背诵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内容占位符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19308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4"/>
          <p:cNvSpPr/>
          <p:nvPr/>
        </p:nvSpPr>
        <p:spPr>
          <a:xfrm>
            <a:off x="1008000" y="39337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说“仙桃石”吧，它（  ）从天上飞下来的（   ），落在山顶的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7000" y="0"/>
            <a:ext cx="1836720" cy="177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看图，把下面句子说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内容占位符 1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619272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4"/>
          <p:cNvSpPr/>
          <p:nvPr/>
        </p:nvSpPr>
        <p:spPr>
          <a:xfrm>
            <a:off x="971640" y="443700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关键词：仙桃石  飞下来  落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"/>
          <p:cNvSpPr/>
          <p:nvPr/>
        </p:nvSpPr>
        <p:spPr>
          <a:xfrm>
            <a:off x="71280" y="147600"/>
            <a:ext cx="1800360" cy="1368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看图，抓关键词把文中句子说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是小导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温馨提示：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熟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向“游客”介绍你觉得最有趣的一块奇石。用文中的话，语调自然，可以配上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971640" y="620640"/>
            <a:ext cx="2232000" cy="1152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游戏环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板块四  活学活用   关注表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23760"/>
            <a:ext cx="8229600" cy="59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大桃子 一（   ）猴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仙人   一（   ）金光闪闪的雄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狮子   一（   ）陡峭的山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朵朵（     ）    一片片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条条（     ）    一根根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468360" y="54000"/>
            <a:ext cx="3166920" cy="1081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量词拓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内容占位符 3" descr=""/>
          <p:cNvPicPr/>
          <p:nvPr/>
        </p:nvPicPr>
        <p:blipFill>
          <a:blip r:embed="rId1"/>
          <a:stretch/>
        </p:blipFill>
        <p:spPr>
          <a:xfrm>
            <a:off x="0" y="34920"/>
            <a:ext cx="3475080" cy="2344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"/>
          <p:cNvPicPr/>
          <p:nvPr/>
        </p:nvPicPr>
        <p:blipFill>
          <a:blip r:embed="rId2"/>
          <a:stretch/>
        </p:blipFill>
        <p:spPr>
          <a:xfrm>
            <a:off x="4572000" y="0"/>
            <a:ext cx="3313080" cy="2379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3"/>
          <a:stretch/>
        </p:blipFill>
        <p:spPr>
          <a:xfrm>
            <a:off x="84240" y="2708280"/>
            <a:ext cx="3390840" cy="2658960"/>
          </a:xfrm>
          <a:prstGeom prst="rect">
            <a:avLst/>
          </a:prstGeom>
          <a:ln w="0">
            <a:noFill/>
          </a:ln>
        </p:spPr>
      </p:pic>
      <p:sp>
        <p:nvSpPr>
          <p:cNvPr id="79" name="矩形 6"/>
          <p:cNvSpPr/>
          <p:nvPr/>
        </p:nvSpPr>
        <p:spPr>
          <a:xfrm>
            <a:off x="4572000" y="2708280"/>
            <a:ext cx="3313080" cy="2521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任选一幅说话，用上“真像”或“好像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板块五   认真观察  学写汉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内容占位符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281320" cy="20307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1871640" cy="2030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6178680" y="404640"/>
            <a:ext cx="2065320" cy="20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板块一     认读字词    理解词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张茂平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刘彬彬  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5868720" cy="38736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"/>
          <p:cNvSpPr/>
          <p:nvPr/>
        </p:nvSpPr>
        <p:spPr>
          <a:xfrm>
            <a:off x="6822720" y="1600200"/>
            <a:ext cx="1643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"/>
                <a:ea typeface="楷体"/>
              </a:rPr>
              <a:t>巨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形近字辨识（连连看）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ū               j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6"/>
          <p:cNvSpPr/>
          <p:nvPr/>
        </p:nvSpPr>
        <p:spPr>
          <a:xfrm>
            <a:off x="971640" y="3029040"/>
            <a:ext cx="21603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7"/>
          <p:cNvSpPr/>
          <p:nvPr/>
        </p:nvSpPr>
        <p:spPr>
          <a:xfrm>
            <a:off x="4572000" y="3029040"/>
            <a:ext cx="2193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"/>
          <p:cNvSpPr/>
          <p:nvPr/>
        </p:nvSpPr>
        <p:spPr>
          <a:xfrm>
            <a:off x="4356000" y="4987800"/>
            <a:ext cx="27370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风景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620640"/>
            <a:ext cx="84340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门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耳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闻 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找出课文中“闻名”的近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著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接箭头连接符 4"/>
          <p:cNvCxnSpPr/>
          <p:nvPr/>
        </p:nvCxnSpPr>
        <p:spPr>
          <a:xfrm>
            <a:off x="2484000" y="1052280"/>
            <a:ext cx="79308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圆角矩形 11"/>
          <p:cNvSpPr/>
          <p:nvPr/>
        </p:nvSpPr>
        <p:spPr>
          <a:xfrm>
            <a:off x="3635280" y="217440"/>
            <a:ext cx="1152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w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2"/>
          <p:cNvSpPr/>
          <p:nvPr/>
        </p:nvSpPr>
        <p:spPr>
          <a:xfrm>
            <a:off x="3276720" y="1685880"/>
            <a:ext cx="2232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wén 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3"/>
          <p:cNvSpPr/>
          <p:nvPr/>
        </p:nvSpPr>
        <p:spPr>
          <a:xfrm>
            <a:off x="3384720" y="3941640"/>
            <a:ext cx="2016000" cy="70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zhù 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40464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考考自己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新闻  百闻不如一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名字  名不虚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板块二   循序渐进    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闻名中外的</a:t>
            </a:r>
            <a:r>
              <a:rPr b="0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黄山风景区</a:t>
            </a:r>
            <a:r>
              <a:rPr b="0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在我国安徽省南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出趣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那里景色秀丽神奇，尤其是那些怪石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就是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“猴子观海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仙人指路”就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到你觉得有趣的地方，声音可以大点，调子可以拉长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179280" y="3860640"/>
            <a:ext cx="4824360" cy="935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揣摩如何读出“趣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43:07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